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BCB-B7F1-47E3-9185-65BFCAA3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DA5-66CB-4058-862C-B6B85534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E18-13D5-4D9A-ABF4-538000C8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2DE-2893-4D34-B57E-1B00155E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17F-AB2E-4DE0-98F9-7804F3FB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419-21AF-406E-A2EA-EAED2526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B97-EB37-41D5-86D1-C9ED3C0B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61E-23AB-4E65-8D7A-A903CE4D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0AA7-78C2-4A0B-BE6A-9E4FE550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D1F-4969-40DD-8346-A7D9FB0F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22E-F2FF-480A-A724-7FAC7512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32A-B050-41AC-BCBB-F9317773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5B28-B848-4226-9FF2-56859BF5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pinturaentela.com/mari/wp-content/uploads/2009/03/color-wheel-300.gif&amp;imgrefurl=http://pinturaentela.com/mari/2009/03/color/&amp;usg=__5Kw5pAZD698PjNBw21O83Y7pZlY=&amp;h=300&amp;w=300&amp;sz=10&amp;hl=en&amp;start=11&amp;itbs=1&amp;tbnid=80xhCZKwTKtNXM:&amp;tbnh=116&amp;tbnw=116&amp;prev=/images%3Fq%3Dcolores%26hl%3Den%26safe%3Dactive%26sa%3DG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eb.educastur.princast.es/cp/apolinar/archivos/ENLACES/webs%203&#186;%20primaria%20CM/images/galeria-03-animales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ksschoolhouse.com/cart-imgs/prod15287_lg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nomaders.com/blog/wp-content/uploads/2008/04/europa.jpg&amp;imgrefurl=http://www.nomaders.com/blog/index.php/hacia-una-europa-para-todos-nuevos-paises-schengen/comment-page-1/&amp;usg=__YQ9tRP3rTu-Sbd1JKEq9yhsFnGs=&amp;h=2419&amp;w=2477&amp;sz=617&amp;hl=en&amp;start=38&amp;itbs=1&amp;tbnid=k5QtqkHwnDli9M:&amp;tbnh=146&amp;tbnw=150&amp;prev=/images%3Fq%3DPAISES%26start%3D20%26hl%3Den%26safe%3Dactive%26sa%3DN%26gbv%3D2%26ndsp%3D20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ses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ea Marin  y  Rosa  Baldovin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u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raj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8288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L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ira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ra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rocod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elef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or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uer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Man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ab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o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n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600200"/>
            <a:ext cx="396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z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dos Un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rto R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600200"/>
            <a:ext cx="3962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am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ntal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a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s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9568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2:15Z</dcterms:created>
  <dc:creator>WSFCS Workstation</dc:creator>
  <dc:description/>
  <dc:language>en-US</dc:language>
  <cp:lastModifiedBy>WSFCS Workstation</cp:lastModifiedBy>
  <dcterms:modified xsi:type="dcterms:W3CDTF">2010-04-26T18:58:55Z</dcterms:modified>
  <cp:revision>3</cp:revision>
  <dc:subject/>
  <dc:title>La Classes de Espanol</dc:title>
</cp:coreProperties>
</file>